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40D-C7FD-4284-80A7-86AD4B05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1064-3BD9-4935-A0BF-3B25F4CB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4080-6434-4AD6-9FA8-6ED4967C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372-3BCD-474C-81C5-93998873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D826-E7A9-479E-95C0-ACC37A81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F1E-0A19-4392-955C-0453091F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35E-2644-4C9B-AE06-59277E2A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B83-8452-4ABE-9F2A-A9D18484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DE8-D3A7-4566-8317-B95783D3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279-C4F9-4DE2-9DB0-4DE17688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1D0-764B-4553-8412-8B548721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E17-7DB0-4914-B8FF-C13729A7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1A8E-F887-4467-B3FA-0EE9E9DE9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her Grav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4635720" cy="3593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81080" y="53341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oto by Jordon Tra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t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4419720" cy="3141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4197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ul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Jerry Ulseman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4038480" cy="321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313056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5029200" cy="297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3732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168720" cy="44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43023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by Pi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221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4120" y="1752480"/>
            <a:ext cx="3105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r T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98952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114800" y="1447920"/>
            <a:ext cx="4546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6:26:41Z</dcterms:created>
  <dc:creator>bal_eegraves</dc:creator>
  <dc:description/>
  <dc:language>en-US</dc:language>
  <cp:lastModifiedBy>C</cp:lastModifiedBy>
  <dcterms:modified xsi:type="dcterms:W3CDTF">2009-05-22T21:07:17Z</dcterms:modified>
  <cp:revision>8</cp:revision>
  <dc:subject/>
  <dc:title>Esther Graves 10th grade</dc:title>
</cp:coreProperties>
</file>